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1B68-6C96-4D56-9645-136EE129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5520-5684-4E12-91D8-5BFB813B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AE84-6F74-42D6-80BA-BD204C41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0450-BFD7-43CA-897C-E98761BB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0ECB-BE79-442C-BB85-7D2AF5AE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44B4-57DC-41F3-81DD-91B2987E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8D38-D79A-41B2-9240-A1D99391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905C-DBF5-4740-AB95-31EC507C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82C2-5DE2-41DC-BEED-2A65047B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5545-5262-482C-8E48-3C85439B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5CC6-0F41-4077-A78B-A4D1B14E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AB84-EB87-47C5-99EC-51C35BB2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088A-1A4D-41AD-8225-AF65292FD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rookvaleps.nsw.edu.au/PROJECTS/Aboriginal-Leaders/Pic-Bennelong.jpg&amp;imgrefurl=http://www.brookvaleps.nsw.edu.au/PROJECTS/Aboriginal-Leaders/Bennelong.html&amp;h=453&amp;w=400&amp;sz=35&amp;hl=en&amp;start=3&amp;um=1&amp;tbnid=z2vRThwX757srM:&amp;tbnh=127&amp;tbnw=112&amp;prev=/images%3Fq%3DBennelong%2Bpictures%26um%3D1%26hl%3Den%26safe%3Dstrict%26rls%3Dcom.microsoft:en-au%26sa%3D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upload.wikimedia.org/wikipedia/commons/9/93/Bennelong.jpg&amp;imgrefurl=http://commons.wikimedia.org/wiki/Image:Bennelong.jpg&amp;h=600&amp;w=562&amp;sz=31&amp;hl=en&amp;start=2&amp;um=1&amp;tbnid=zlId6m8N3-9iWM:&amp;tbnh=135&amp;tbnw=126&amp;prev=/images%3Fq%3DBennelong%2Bpictures%26um%3D1%26hl%3Den%26safe%3Dstrict%26rls%3Dcom.microsoft:en-au%26sa%3DN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9/93/Bennelong.jpg&amp;imgrefurl=http://commons.wikimedia.org/wiki/Image:Bennelong.jpg&amp;h=600&amp;w=562&amp;sz=31&amp;hl=en&amp;start=2&amp;um=1&amp;tbnid=zlId6m8N3-9iWM:&amp;tbnh=135&amp;tbnw=126&amp;prev=/images%3Fq%3DBennelong%2Bpictures%26um%3D1%26hl%3Den%26safe%3Dstrict%26rls%3Dcom.microsoft:en-au%26sa%3DN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brookvaleps.nsw.edu.au/PROJECTS/Aboriginal-Leaders/Pic-Bennelong.jpg&amp;imgrefurl=http://www.brookvaleps.nsw.edu.au/PROJECTS/Aboriginal-Leaders/Bennelong.html&amp;h=453&amp;w=400&amp;sz=35&amp;hl=en&amp;start=3&amp;um=1&amp;tbnid=z2vRThwX757srM:&amp;tbnh=127&amp;tbnw=112&amp;prev=/images%3Fq%3DBennelong%2Bpictures%26um%3D1%26hl%3Den%26safe%3Dstrict%26rls%3Dcom.microsoft:en-au%26sa%3DN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rookvaleps.nsw.edu.au/PROJECTS/Aboriginal-Leaders/Pic-Bennelong.jpg&amp;imgrefurl=http://www.brookvaleps.nsw.edu.au/PROJECTS/Aboriginal-Leaders/Bennelong.html&amp;h=453&amp;w=400&amp;sz=35&amp;hl=en&amp;start=3&amp;um=1&amp;tbnid=z2vRThwX757srM:&amp;tbnh=127&amp;tbnw=112&amp;prev=/images%3Fq%3DBennelong%2Bpictures%26um%3D1%26hl%3Den%26safe%3Dstrict%26rls%3Dcom.microsoft:en-au%26sa%3D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upload.wikimedia.org/wikipedia/commons/9/93/Bennelong.jpg&amp;imgrefurl=http://commons.wikimedia.org/wiki/Image:Bennelong.jpg&amp;h=600&amp;w=562&amp;sz=31&amp;hl=en&amp;start=2&amp;um=1&amp;tbnid=zlId6m8N3-9iWM:&amp;tbnh=135&amp;tbnw=126&amp;prev=/images%3Fq%3DBennelong%2Bpictures%26um%3D1%26hl%3Den%26safe%3Dstrict%26rls%3Dcom.microsoft:en-au%26sa%3DN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9/93/Bennelong.jpg&amp;imgrefurl=http://commons.wikimedia.org/wiki/Image:Bennelong.jpg&amp;h=600&amp;w=562&amp;sz=31&amp;hl=en&amp;start=2&amp;um=1&amp;tbnid=zlId6m8N3-9iWM:&amp;tbnh=135&amp;tbnw=126&amp;prev=/images%3Fq%3DBennelong%2Bpictures%26um%3D1%26hl%3Den%26safe%3Dstrict%26rls%3Dcom.microsoft:en-au%26sa%3DN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11280" y="476280"/>
            <a:ext cx="46818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Bennelong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7236000" y="6021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Kozuka Mincho Pro M"/>
              </a:rPr>
              <a:t>By Guled Moham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Portrait of  Bennelong  (1764? - 1813)"/>
          <p:cNvPicPr/>
          <p:nvPr/>
        </p:nvPicPr>
        <p:blipFill>
          <a:blip r:embed="rId1"/>
          <a:stretch/>
        </p:blipFill>
        <p:spPr>
          <a:xfrm>
            <a:off x="3059280" y="2133720"/>
            <a:ext cx="315108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26920" y="2205000"/>
            <a:ext cx="6264360" cy="36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Kozuka Mincho Pro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Kozuka Mincho Pro L"/>
              </a:rPr>
              <a:t>Bennelong was born 1764 to 18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Kozuka Mincho Pro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Kozuka Mincho Pro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Kozuka Mincho Pro L"/>
              </a:rPr>
              <a:t>Captured 1789 by the British fo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Kozuka Mincho Pro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Kozuka Mincho Pro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Kozuka Mincho Pro L"/>
              </a:rPr>
              <a:t>They hoped to learn from him the language and customs of Aborigin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Kozuka Mincho Pro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Kozuka Mincho Pro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Kozuka Mincho Pro L"/>
              </a:rPr>
              <a:t>Their he learnt English and like the Brit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40000" y="260280"/>
            <a:ext cx="4681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History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0"/>
            <a:ext cx="1066680" cy="1209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200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411280" y="476280"/>
            <a:ext cx="46818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How he got famous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2637000"/>
            <a:ext cx="705636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First Aboriginal to learn to speak Engl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Sailed to England to talk to the 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Helped build the Government ho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He was known as Intelligent, courageous, vain and quick tempe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200240" cy="128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0"/>
            <a:ext cx="106668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0"/>
            <a:ext cx="1066680" cy="1209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200240" cy="128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411280" y="476280"/>
            <a:ext cx="46818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Bennelongs family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2565360"/>
            <a:ext cx="6624720" cy="47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ozuka Mincho Pro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ozuka Mincho Pro 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Kozuka Mincho Pro L"/>
              </a:rPr>
              <a:t>Bennelong was married to Barangar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ozuka Mincho Pro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ozuka Mincho Pro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ozuka Mincho Pro L"/>
              </a:rPr>
              <a:t>His first wife died and had another wife named Gooroobaroobooloo</a:t>
            </a:r>
            <a:r>
              <a:rPr b="0" lang="en-US" sz="2400" spc="-1" strike="noStrike">
                <a:solidFill>
                  <a:srgbClr val="000000"/>
                </a:solidFill>
                <a:latin typeface="Kozuka Mincho Pro 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ozuka Mincho Pro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ozuka Mincho Pro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ozuka Mincho Pro L"/>
              </a:rPr>
              <a:t>Had a daughter named dilboong who died in infa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ozuka Mincho Pro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ozuka Mincho Pro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200240" cy="128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8077320" y="0"/>
            <a:ext cx="1066680" cy="1209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360" y="2565360"/>
            <a:ext cx="73436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ennelong Sailed to Sydney, Austra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 caught a very bad disease from Bri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 was sick in bed for more than a mon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 died 1813 in bed for a sick dis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03:06:20Z</dcterms:created>
  <dc:creator>Reservoir District Secondary College</dc:creator>
  <dc:description/>
  <dc:language>en-US</dc:language>
  <cp:lastModifiedBy>Reservoir District Secondary College</cp:lastModifiedBy>
  <dcterms:modified xsi:type="dcterms:W3CDTF">2008-08-21T03:39:27Z</dcterms:modified>
  <cp:revision>2</cp:revision>
  <dc:subject/>
  <dc:title>Slide 1</dc:title>
</cp:coreProperties>
</file>